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A45-CF5A-4CB8-A29E-41B486A6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B96-A4E6-4CFD-9460-30A6888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ACF-5414-4339-B6CF-27B77F8E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691-1F3E-41CB-A3EF-D4994273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FEE-C6BE-4C76-B2E9-967897F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3AD-FAAB-4212-A70B-06A434D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9DC-36F8-4D3D-AE8C-C5D022C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41A-5994-4822-91FF-DAE8F15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790-09BD-42B7-992E-14C748E7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E0C-81FC-4584-BF47-120F29E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4E8-5BD6-4428-8992-A4DBEE3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057-AEFF-484D-815A-898D945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1FD-5A72-485D-81BA-EDEC5D6EB7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85840" y="14209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500120" y="2071800"/>
            <a:ext cx="4572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αλυπτ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πτιζ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ω (1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κ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ξ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5429160" y="222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29160" y="285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veal, un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5429160" y="34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ptise, 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429160" y="408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5429160" y="47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ersecute, pur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5429160" y="5300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ise, glo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278400"/>
            <a:ext cx="200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161784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ζ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μπω (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θ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ζω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ρχω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429160" y="177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laim, p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429160" y="239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29160" y="301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429160" y="362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vince, persu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429160" y="4246560"/>
            <a:ext cx="3429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ve, rescue, heal (sometimes writt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ῳζ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29160" y="548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,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71440" y="121428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8600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τ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43440" y="2428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71440" y="17859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hich is clearly not a comp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85840" y="31431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that look like compounds but do not behave as compounds (e.g. augments are added to the beginn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500120" y="4071960"/>
            <a:ext cx="4572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λογε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χαριστε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δομ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57840" y="4214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ak well of, bless, 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857840" y="4853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4857840" y="5457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uild (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177156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χω (24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357800" y="1914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heed of, pay atten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40" y="12715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b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akes the d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714240" y="3098880"/>
            <a:ext cx="45720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ι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ι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δη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υν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ε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57800" y="324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, jus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71440" y="2598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words all abou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357800" y="38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7800" y="4500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57800" y="5129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357800" y="5710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14240" y="135720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ετι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π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λιν (1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οτε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ε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ρον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τε (1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357800" y="15001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357800" y="2130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57800" y="2759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,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357800" y="33876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57800" y="3968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(at som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357800" y="45720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57800" y="5210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571760"/>
            <a:ext cx="3643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85880" y="3357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uple of extra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43120" y="4257720"/>
            <a:ext cx="3286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οθεο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πος (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429160" y="2295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443560" y="4410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4356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0:06:27Z</dcterms:created>
  <dc:creator>Sarah</dc:creator>
  <dc:description/>
  <dc:language>en-US</dc:language>
  <cp:lastModifiedBy>Sarah</cp:lastModifiedBy>
  <dcterms:modified xsi:type="dcterms:W3CDTF">2009-06-29T10:07:22Z</dcterms:modified>
  <cp:revision>19</cp:revision>
  <dc:subject/>
  <dc:title>Slide 1</dc:title>
</cp:coreProperties>
</file>